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C05-7CB5-422A-B89D-690AAA63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601-1455-494C-BA3C-CC21501E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D7B-EC9D-42CF-93A9-A7C8D369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FFC-5109-4FE7-A98F-EDC49A96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4E9-903B-4114-968E-382DD32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A5B-D5B5-47C1-8B8C-D114BD2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B2B-A9FE-41B6-B3F5-EC3FA83E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9A9-64E2-4AB5-BFE5-8F4C1860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D11-B9C0-4A7E-BA15-D34FC511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AD2-A38D-48B6-B2D3-35C1AFA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94E-3AB9-4092-A084-136D38A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803-7CCB-407B-BEB1-36D07EB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E397-E308-4698-9285-22CA79768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94360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Ya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kcs user\Local Settings\Temporary Internet Files\Content.IE5\IVVQ5A2W\MCj0195578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318132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4114800" y="1905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type of ox with long hai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37160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saw a yak grazing in the gra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962520" y="533520"/>
            <a:ext cx="464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im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990720" y="2971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music from a set of bell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kcs user\Local Settings\Temporary Internet Files\Content.IE5\2QUQ72KL\MCEN00040_0000[1].wmf"/>
          <p:cNvPicPr/>
          <p:nvPr/>
        </p:nvPicPr>
        <p:blipFill>
          <a:blip r:embed="rId1"/>
          <a:stretch/>
        </p:blipFill>
        <p:spPr>
          <a:xfrm>
            <a:off x="609480" y="533520"/>
            <a:ext cx="1905120" cy="1995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990720" y="4419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are wind chimes hanging on the neighbors por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495680" y="533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ake-u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1219320" y="3733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pstick, powder, or other materials that change one’s appear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143000" y="5181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watched my mom put on make-up in the mo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kcs user\Local Settings\Temporary Internet Files\Content.IE5\BPTMCVYZ\MCj01499940000[1].wmf"/>
          <p:cNvPicPr/>
          <p:nvPr/>
        </p:nvPicPr>
        <p:blipFill>
          <a:blip r:embed="rId1"/>
          <a:stretch/>
        </p:blipFill>
        <p:spPr>
          <a:xfrm>
            <a:off x="0" y="304920"/>
            <a:ext cx="32004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572000" y="533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z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1523880" y="22860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roviding warmth and comfor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295280" y="37339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feels so cozy laying in bed on a cold nigh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304920" y="457200"/>
            <a:ext cx="18288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038480" y="457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ajama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Documents and Settings\kcs user\Local Settings\Temporary Internet Files\Content.IE5\RWAYEZP7\MCj0361632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3124080" y="19810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othes people wear to slee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914400" y="4038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merald listened put on her pajamas and listened to her bedtime st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572000" y="6094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obb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600200" y="3352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lked with a lim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447920" y="4724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elderly man hobbled as he walk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kcs user\Local Settings\Temporary Internet Files\Content.IE5\HFUIXQC2\MCj0404213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98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200400" y="6094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rammed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00200" y="3657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uffed or packed tight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523880" y="4876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gon crammed food into his c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kcs user\Local Settings\Temporary Internet Files\Content.IE5\H6GMZ4FW\MCj02977610000[1].wmf"/>
          <p:cNvPicPr/>
          <p:nvPr/>
        </p:nvPicPr>
        <p:blipFill>
          <a:blip r:embed="rId1"/>
          <a:stretch/>
        </p:blipFill>
        <p:spPr>
          <a:xfrm>
            <a:off x="304920" y="457200"/>
            <a:ext cx="2928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3809880" y="457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wi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kcs user\Local Settings\Temporary Internet Files\Content.IE5\1QBZPOJ9\MCj02979410000[1].wmf"/>
          <p:cNvPicPr/>
          <p:nvPr/>
        </p:nvPicPr>
        <p:blipFill>
          <a:blip r:embed="rId1"/>
          <a:stretch/>
        </p:blipFill>
        <p:spPr>
          <a:xfrm>
            <a:off x="685800" y="457200"/>
            <a:ext cx="1219320" cy="2786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971800" y="2209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wo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33520" y="4267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y mom said, “Don’t make me tell you twice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809880" y="6858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ommo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752480" y="2514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isy excite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523880" y="403848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was a lot of commotion in the class when Fisher brought in his turtl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Documents and Settings\kcs user\Local Settings\Temporary Internet Files\Content.IE5\IVVQ5A2W\MCj0198458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143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657600" y="3808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elive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209680" y="35812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anded over to some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981080" y="51814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florist delivered flow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kcs user\Local Settings\Temporary Internet Files\Content.IE5\2QUQ72KL\MCj0237322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24382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kcs user\Local Settings\Temporary Internet Files\Content.IE5\RWAYEZP7\MCHH00856_0000[1].wmf"/>
          <p:cNvPicPr/>
          <p:nvPr/>
        </p:nvPicPr>
        <p:blipFill>
          <a:blip r:embed="rId1"/>
          <a:stretch/>
        </p:blipFill>
        <p:spPr>
          <a:xfrm>
            <a:off x="380880" y="5335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80988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eath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438280" y="22860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soft, flat parts of the outer covering of bird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676520" y="4191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found a feather on the groun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962520" y="304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leas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kcs user\Local Settings\Temporary Internet Files\Content.IE5\AT2BMQ76\MCj0403887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220968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429000" y="19051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t fre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23880" y="3733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bird was released from the ca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638680" y="4572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i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2438280" y="2362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lose strength and energ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85800" y="3962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tire easily when I haven’t had any foo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kcs user\Local Settings\Temporary Internet Files\Content.IE5\1QBZPOJ9\MCj02825880000[1].wmf"/>
          <p:cNvPicPr/>
          <p:nvPr/>
        </p:nvPicPr>
        <p:blipFill>
          <a:blip r:embed="rId1"/>
          <a:stretch/>
        </p:blipFill>
        <p:spPr>
          <a:xfrm>
            <a:off x="380880" y="457200"/>
            <a:ext cx="234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343400" y="533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ear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28800" y="3200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aving something on the bod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600200" y="44956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eople wear a cap when they gradu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kcs user\Local Settings\Temporary Internet Files\Content.IE5\SZ6733UR\MCj02386890000[1].wmf"/>
          <p:cNvPicPr/>
          <p:nvPr/>
        </p:nvPicPr>
        <p:blipFill>
          <a:blip r:embed="rId1"/>
          <a:stretch/>
        </p:blipFill>
        <p:spPr>
          <a:xfrm>
            <a:off x="533520" y="609480"/>
            <a:ext cx="3292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952880" y="60948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rri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523880" y="33526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type of small do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914400" y="4724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rrier would not quit bark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kcs user\Local Settings\Temporary Internet Files\Content.IE5\H6GMZ4FW\MCj0424562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25146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1143000" y="24382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ctures made of the inside of your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066680" y="4495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sher had his arm x-rayed when he fell off of the trampol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kcs user\Local Settings\Temporary Internet Files\Content.IE5\12T97BD1\MCj0227346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8:58:35Z</dcterms:created>
  <dc:creator>kcs user</dc:creator>
  <dc:description/>
  <dc:language>en-US</dc:language>
  <cp:lastModifiedBy>kcs user</cp:lastModifiedBy>
  <dcterms:modified xsi:type="dcterms:W3CDTF">2008-09-17T21:29:49Z</dcterms:modified>
  <cp:revision>16</cp:revision>
  <dc:subject/>
  <dc:title>Slide 1</dc:title>
</cp:coreProperties>
</file>